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DRIVEBY.WAV" ContentType="audio/x-wav"/>
  <Override PartName="/ppt/media/LASER.WAV" ContentType="audio/x-wav"/>
  <Override PartName="/ppt/media/TYPE.WAV" ContentType="audio/x-wav"/>
  <Override PartName="/ppt/media/image2.wmf" ContentType="image/x-wmf"/>
  <Override PartName="/ppt/media/EXPLODE.WAV" ContentType="audio/x-wav"/>
  <Override PartName="/ppt/media/GLASS.WAV" ContentType="audio/x-wav"/>
  <Override PartName="/ppt/media/CLAP.WAV" ContentType="audio/x-wav"/>
  <Override PartName="/ppt/media/APPLAUSE.WAV" ContentType="audio/x-wav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AB0-0D92-450F-B138-C24423B5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AAF-650B-4F4B-9403-B5FAA719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016-8CEB-4112-8543-2B20062B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BA4-50F4-422B-9874-98ACE866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991-A22C-4175-B52E-309DC303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D60-86CB-44C5-AAFB-FFC04057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99B-F454-490B-9213-BAA702DC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47D-AF5C-47B0-B53C-81DE9CDD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B67-CC77-442B-A544-F5D469F4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CC8-F818-41CD-8CA8-86D2569B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04F-02F3-448C-B09C-2E8C1415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7C6-B9D2-4DC3-8BE3-48B3818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D89D-7D5B-4614-AA6B-B361FF7012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TYPE.WAV"/><Relationship Id="rId27" Type="http://schemas.openxmlformats.org/officeDocument/2006/relationships/audio" Target="../media/TYPE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LAP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audio" Target="../media/CLAP.WAV"/><Relationship Id="rId7" Type="http://schemas.openxmlformats.org/officeDocument/2006/relationships/audio" Target="../media/CLAP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s and Formul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291360" y="1376280"/>
                <a:ext cx="1449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20840" y="1695600"/>
                <a:ext cx="143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208240" y="2751120"/>
                <a:ext cx="11556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135160" y="3543480"/>
                <a:ext cx="11574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25520" y="4116240"/>
                <a:ext cx="102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410160" y="2455920"/>
                <a:ext cx="1341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630840" y="3463920"/>
                <a:ext cx="10494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593040" y="4230720"/>
                <a:ext cx="1147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411960" y="1376280"/>
                <a:ext cx="1208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979640" y="1652760"/>
                <a:ext cx="12430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124000" y="2604960"/>
                <a:ext cx="1003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92320" y="3560760"/>
                <a:ext cx="1244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95640" y="4260960"/>
                <a:ext cx="982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86400" y="2625840"/>
                <a:ext cx="1390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43640" y="3213000"/>
                <a:ext cx="1244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59480" y="3716280"/>
                <a:ext cx="1416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394320" y="4149720"/>
                <a:ext cx="1562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603840" y="4711680"/>
                <a:ext cx="1098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588000" y="5589720"/>
                <a:ext cx="109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291360" y="1565280"/>
                <a:ext cx="1449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327400" y="1668600"/>
                <a:ext cx="12160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293920" y="2730600"/>
                <a:ext cx="981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459480" y="2638440"/>
                <a:ext cx="12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581880" y="3463920"/>
                <a:ext cx="11491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91360" y="1417680"/>
                <a:ext cx="1449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60440" y="1695600"/>
                <a:ext cx="135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239920" y="2751120"/>
                <a:ext cx="1090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66840" y="3532320"/>
                <a:ext cx="10922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225520" y="4116240"/>
                <a:ext cx="102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350040" y="2455920"/>
                <a:ext cx="14637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594480" y="3427560"/>
                <a:ext cx="1123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556320" y="4194000"/>
                <a:ext cx="12207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386400" y="1417680"/>
                <a:ext cx="12574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138400" y="1641600"/>
                <a:ext cx="1595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185920" y="2730600"/>
                <a:ext cx="1200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101680" y="3510000"/>
                <a:ext cx="1222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171880" y="4094280"/>
                <a:ext cx="1134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434280" y="2455920"/>
                <a:ext cx="12938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386400" y="3622680"/>
                <a:ext cx="154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x the subject o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964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162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11960" y="1393920"/>
                <a:ext cx="12081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967040" y="1652760"/>
                <a:ext cx="1269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112840" y="2604960"/>
                <a:ext cx="10256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081160" y="3560760"/>
                <a:ext cx="1266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185920" y="4260960"/>
                <a:ext cx="1003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362640" y="2581200"/>
                <a:ext cx="1440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70560" y="3213000"/>
                <a:ext cx="1390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472080" y="3830760"/>
                <a:ext cx="1390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6394320" y="4454640"/>
                <a:ext cx="1562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603840" y="5000760"/>
                <a:ext cx="1098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5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 and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8075520" y="2820960"/>
            <a:ext cx="505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53040" y="2108160"/>
            <a:ext cx="5032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40720" y="24606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the semi-interquartile range from the Stem and leaf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39640" y="1557360"/>
            <a:ext cx="3745080" cy="2232000"/>
            <a:chOff x="539640" y="1557360"/>
            <a:chExt cx="3745080" cy="2232000"/>
          </a:xfrm>
        </p:grpSpPr>
        <p:sp>
          <p:nvSpPr>
            <p:cNvPr id="363" name=""/>
            <p:cNvSpPr/>
            <p:nvPr/>
          </p:nvSpPr>
          <p:spPr>
            <a:xfrm>
              <a:off x="900000" y="1557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9640" y="1702080"/>
              <a:ext cx="33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  5  2  7  1  0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640" y="210852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  1  6  0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9640" y="2468880"/>
              <a:ext cx="32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  2  1  9  3  4  3  1 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9640" y="2827440"/>
              <a:ext cx="35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  1  2  9  2  8  2  0  2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9640" y="318780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  3  1  0  4  7  3  1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03640" y="1557360"/>
            <a:ext cx="3745080" cy="2232000"/>
            <a:chOff x="5003640" y="1557360"/>
            <a:chExt cx="3745080" cy="2232000"/>
          </a:xfrm>
        </p:grpSpPr>
        <p:sp>
          <p:nvSpPr>
            <p:cNvPr id="370" name=""/>
            <p:cNvSpPr/>
            <p:nvPr/>
          </p:nvSpPr>
          <p:spPr>
            <a:xfrm>
              <a:off x="5364000" y="155736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03640" y="1702080"/>
              <a:ext cx="331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  0  1  2  2  5 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03640" y="210852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  0  1  2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03640" y="2468880"/>
              <a:ext cx="32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  1  1  2  3  3  4  8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03640" y="2827440"/>
              <a:ext cx="35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  0  1  2  2  2  2  2  8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03640" y="318780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  0  1  1  1  3  3  4 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636480" y="4098960"/>
            <a:ext cx="458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3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6200" y="469584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17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5560" y="5276880"/>
            <a:ext cx="434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17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30960" y="4076640"/>
            <a:ext cx="18777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72000" y="467352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7840" y="527688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5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58920" y="602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SIQR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602136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(59 – 32)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2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2000" y="602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1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983200" y="2882880"/>
            <a:ext cx="522360" cy="49068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93760" y="2898720"/>
            <a:ext cx="522360" cy="49068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21200" y="2889360"/>
            <a:ext cx="522360" cy="49032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pil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d the following grad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r S1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0720" y="165888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89%, 61%, 75%, 84%, 99%, 67%, 91%, 62%, 79%, 90%, 6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6440" y="222732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 a box plot to illustrate her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0080" y="295416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61%, 62%, 64%, 67%, 75%, 79%, 84%, 89%, 90%, 91%,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6480" y="4294080"/>
            <a:ext cx="458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11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6200" y="489096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5560" y="5472000"/>
            <a:ext cx="434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66800" y="3265560"/>
            <a:ext cx="7067520" cy="447480"/>
            <a:chOff x="766800" y="3265560"/>
            <a:chExt cx="7067520" cy="447480"/>
          </a:xfrm>
        </p:grpSpPr>
        <p:sp>
          <p:nvSpPr>
            <p:cNvPr id="396" name=""/>
            <p:cNvSpPr/>
            <p:nvPr/>
          </p:nvSpPr>
          <p:spPr>
            <a:xfrm>
              <a:off x="766800" y="3265560"/>
              <a:ext cx="3168720" cy="422280"/>
            </a:xfrm>
            <a:custGeom>
              <a:avLst/>
              <a:gdLst/>
              <a:ahLst/>
              <a:rect l="l" t="t" r="r" b="b"/>
              <a:pathLst>
                <a:path w="1996" h="266">
                  <a:moveTo>
                    <a:pt x="0" y="0"/>
                  </a:moveTo>
                  <a:cubicBezTo>
                    <a:pt x="308" y="124"/>
                    <a:pt x="616" y="248"/>
                    <a:pt x="782" y="257"/>
                  </a:cubicBezTo>
                  <a:cubicBezTo>
                    <a:pt x="948" y="266"/>
                    <a:pt x="929" y="55"/>
                    <a:pt x="998" y="52"/>
                  </a:cubicBezTo>
                  <a:cubicBezTo>
                    <a:pt x="1067" y="49"/>
                    <a:pt x="1028" y="241"/>
                    <a:pt x="1194" y="237"/>
                  </a:cubicBezTo>
                  <a:cubicBezTo>
                    <a:pt x="1360" y="233"/>
                    <a:pt x="1678" y="132"/>
                    <a:pt x="1996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65600" y="3290760"/>
              <a:ext cx="3168720" cy="422280"/>
            </a:xfrm>
            <a:custGeom>
              <a:avLst/>
              <a:gdLst/>
              <a:ahLst/>
              <a:rect l="l" t="t" r="r" b="b"/>
              <a:pathLst>
                <a:path w="1996" h="266">
                  <a:moveTo>
                    <a:pt x="0" y="0"/>
                  </a:moveTo>
                  <a:cubicBezTo>
                    <a:pt x="308" y="124"/>
                    <a:pt x="616" y="248"/>
                    <a:pt x="782" y="257"/>
                  </a:cubicBezTo>
                  <a:cubicBezTo>
                    <a:pt x="948" y="266"/>
                    <a:pt x="929" y="55"/>
                    <a:pt x="998" y="52"/>
                  </a:cubicBezTo>
                  <a:cubicBezTo>
                    <a:pt x="1067" y="49"/>
                    <a:pt x="1028" y="241"/>
                    <a:pt x="1194" y="237"/>
                  </a:cubicBezTo>
                  <a:cubicBezTo>
                    <a:pt x="1360" y="233"/>
                    <a:pt x="1678" y="132"/>
                    <a:pt x="1996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286240" y="429732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7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27640" y="489420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6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43480" y="549756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500"/>
                            </p:stCondLst>
                            <p:childTnLst>
                              <p:par>
                                <p:cTn id="18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395280" y="1908000"/>
            <a:ext cx="8064360" cy="657000"/>
            <a:chOff x="395280" y="1908000"/>
            <a:chExt cx="8064360" cy="657000"/>
          </a:xfrm>
        </p:grpSpPr>
        <p:sp>
          <p:nvSpPr>
            <p:cNvPr id="402" name=""/>
            <p:cNvSpPr/>
            <p:nvPr/>
          </p:nvSpPr>
          <p:spPr>
            <a:xfrm>
              <a:off x="611280" y="1908000"/>
              <a:ext cx="756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6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42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58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76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8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24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40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574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7344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7020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862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018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178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352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5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672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82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98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16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3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3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48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64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80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974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344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1200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27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43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59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770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30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930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08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24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40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581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741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2196720"/>
              <a:ext cx="80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4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5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60            70              80            90           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924360" y="907560"/>
            <a:ext cx="4103640" cy="864000"/>
            <a:chOff x="3924360" y="907560"/>
            <a:chExt cx="4103640" cy="864000"/>
          </a:xfrm>
        </p:grpSpPr>
        <p:sp>
          <p:nvSpPr>
            <p:cNvPr id="447" name=""/>
            <p:cNvSpPr/>
            <p:nvPr/>
          </p:nvSpPr>
          <p:spPr>
            <a:xfrm flipV="1">
              <a:off x="392436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28472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594036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09308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802800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24360" y="1339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84720" y="90792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84720" y="177156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91280" y="1339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038480" y="2819160"/>
            <a:ext cx="152280" cy="990360"/>
            <a:chOff x="4038480" y="2819160"/>
            <a:chExt cx="152280" cy="990360"/>
          </a:xfrm>
        </p:grpSpPr>
        <p:sp>
          <p:nvSpPr>
            <p:cNvPr id="44" name=""/>
            <p:cNvSpPr/>
            <p:nvPr/>
          </p:nvSpPr>
          <p:spPr>
            <a:xfrm flipV="1">
              <a:off x="403848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403848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attern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520" y="1981080"/>
            <a:ext cx="152280" cy="990720"/>
            <a:chOff x="533520" y="1981080"/>
            <a:chExt cx="152280" cy="990720"/>
          </a:xfrm>
        </p:grpSpPr>
        <p:sp>
          <p:nvSpPr>
            <p:cNvPr id="48" name=""/>
            <p:cNvSpPr/>
            <p:nvPr/>
          </p:nvSpPr>
          <p:spPr>
            <a:xfrm>
              <a:off x="53352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371600" y="1981080"/>
            <a:ext cx="152280" cy="990720"/>
            <a:chOff x="1371600" y="1981080"/>
            <a:chExt cx="152280" cy="990720"/>
          </a:xfrm>
        </p:grpSpPr>
        <p:sp>
          <p:nvSpPr>
            <p:cNvPr id="51" name=""/>
            <p:cNvSpPr/>
            <p:nvPr/>
          </p:nvSpPr>
          <p:spPr>
            <a:xfrm>
              <a:off x="137160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160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4400" y="2819160"/>
            <a:ext cx="152280" cy="990360"/>
            <a:chOff x="914400" y="2819160"/>
            <a:chExt cx="152280" cy="990360"/>
          </a:xfrm>
        </p:grpSpPr>
        <p:sp>
          <p:nvSpPr>
            <p:cNvPr id="54" name=""/>
            <p:cNvSpPr/>
            <p:nvPr/>
          </p:nvSpPr>
          <p:spPr>
            <a:xfrm flipV="1">
              <a:off x="91440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91440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19520" y="1981080"/>
            <a:ext cx="152280" cy="990720"/>
            <a:chOff x="2819520" y="1981080"/>
            <a:chExt cx="152280" cy="990720"/>
          </a:xfrm>
        </p:grpSpPr>
        <p:sp>
          <p:nvSpPr>
            <p:cNvPr id="57" name=""/>
            <p:cNvSpPr/>
            <p:nvPr/>
          </p:nvSpPr>
          <p:spPr>
            <a:xfrm>
              <a:off x="281952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952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657600" y="1981080"/>
            <a:ext cx="152280" cy="990720"/>
            <a:chOff x="3657600" y="1981080"/>
            <a:chExt cx="152280" cy="990720"/>
          </a:xfrm>
        </p:grpSpPr>
        <p:sp>
          <p:nvSpPr>
            <p:cNvPr id="60" name=""/>
            <p:cNvSpPr/>
            <p:nvPr/>
          </p:nvSpPr>
          <p:spPr>
            <a:xfrm>
              <a:off x="365760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5760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00400" y="2819160"/>
            <a:ext cx="152280" cy="990360"/>
            <a:chOff x="3200400" y="2819160"/>
            <a:chExt cx="152280" cy="990360"/>
          </a:xfrm>
        </p:grpSpPr>
        <p:sp>
          <p:nvSpPr>
            <p:cNvPr id="63" name=""/>
            <p:cNvSpPr/>
            <p:nvPr/>
          </p:nvSpPr>
          <p:spPr>
            <a:xfrm flipV="1">
              <a:off x="320040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20040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95680" y="1981080"/>
            <a:ext cx="152280" cy="990720"/>
            <a:chOff x="4495680" y="1981080"/>
            <a:chExt cx="152280" cy="990720"/>
          </a:xfrm>
        </p:grpSpPr>
        <p:sp>
          <p:nvSpPr>
            <p:cNvPr id="66" name=""/>
            <p:cNvSpPr/>
            <p:nvPr/>
          </p:nvSpPr>
          <p:spPr>
            <a:xfrm>
              <a:off x="449568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568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657600" y="2819520"/>
            <a:ext cx="990720" cy="152280"/>
            <a:chOff x="3657600" y="2819520"/>
            <a:chExt cx="990720" cy="152280"/>
          </a:xfrm>
        </p:grpSpPr>
        <p:sp>
          <p:nvSpPr>
            <p:cNvPr id="69" name=""/>
            <p:cNvSpPr/>
            <p:nvPr/>
          </p:nvSpPr>
          <p:spPr>
            <a:xfrm>
              <a:off x="3657600" y="2819520"/>
              <a:ext cx="99072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2819520"/>
              <a:ext cx="15264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91320" y="1981080"/>
            <a:ext cx="152280" cy="990720"/>
            <a:chOff x="5791320" y="1981080"/>
            <a:chExt cx="152280" cy="990720"/>
          </a:xfrm>
        </p:grpSpPr>
        <p:sp>
          <p:nvSpPr>
            <p:cNvPr id="72" name=""/>
            <p:cNvSpPr/>
            <p:nvPr/>
          </p:nvSpPr>
          <p:spPr>
            <a:xfrm>
              <a:off x="579132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132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629400" y="1981080"/>
            <a:ext cx="152280" cy="990720"/>
            <a:chOff x="6629400" y="1981080"/>
            <a:chExt cx="152280" cy="990720"/>
          </a:xfrm>
        </p:grpSpPr>
        <p:sp>
          <p:nvSpPr>
            <p:cNvPr id="75" name=""/>
            <p:cNvSpPr/>
            <p:nvPr/>
          </p:nvSpPr>
          <p:spPr>
            <a:xfrm>
              <a:off x="662940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2940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72200" y="2819160"/>
            <a:ext cx="152280" cy="990360"/>
            <a:chOff x="6172200" y="2819160"/>
            <a:chExt cx="152280" cy="990360"/>
          </a:xfrm>
        </p:grpSpPr>
        <p:sp>
          <p:nvSpPr>
            <p:cNvPr id="78" name=""/>
            <p:cNvSpPr/>
            <p:nvPr/>
          </p:nvSpPr>
          <p:spPr>
            <a:xfrm flipV="1">
              <a:off x="617220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17220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467480" y="1981080"/>
            <a:ext cx="152280" cy="990720"/>
            <a:chOff x="7467480" y="1981080"/>
            <a:chExt cx="152280" cy="990720"/>
          </a:xfrm>
        </p:grpSpPr>
        <p:sp>
          <p:nvSpPr>
            <p:cNvPr id="81" name=""/>
            <p:cNvSpPr/>
            <p:nvPr/>
          </p:nvSpPr>
          <p:spPr>
            <a:xfrm>
              <a:off x="746748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6748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010280" y="2819160"/>
            <a:ext cx="152280" cy="990360"/>
            <a:chOff x="7010280" y="2819160"/>
            <a:chExt cx="152280" cy="990360"/>
          </a:xfrm>
        </p:grpSpPr>
        <p:sp>
          <p:nvSpPr>
            <p:cNvPr id="84" name=""/>
            <p:cNvSpPr/>
            <p:nvPr/>
          </p:nvSpPr>
          <p:spPr>
            <a:xfrm flipV="1">
              <a:off x="701028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01028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305920" y="1981080"/>
            <a:ext cx="152280" cy="990720"/>
            <a:chOff x="8305920" y="1981080"/>
            <a:chExt cx="152280" cy="990720"/>
          </a:xfrm>
        </p:grpSpPr>
        <p:sp>
          <p:nvSpPr>
            <p:cNvPr id="87" name=""/>
            <p:cNvSpPr/>
            <p:nvPr/>
          </p:nvSpPr>
          <p:spPr>
            <a:xfrm>
              <a:off x="8305920" y="1981080"/>
              <a:ext cx="152280" cy="990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05920" y="1981080"/>
              <a:ext cx="152280" cy="1526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848720" y="2819160"/>
            <a:ext cx="152280" cy="990360"/>
            <a:chOff x="7848720" y="2819160"/>
            <a:chExt cx="152280" cy="990360"/>
          </a:xfrm>
        </p:grpSpPr>
        <p:sp>
          <p:nvSpPr>
            <p:cNvPr id="90" name=""/>
            <p:cNvSpPr/>
            <p:nvPr/>
          </p:nvSpPr>
          <p:spPr>
            <a:xfrm flipV="1">
              <a:off x="7848720" y="2818800"/>
              <a:ext cx="152280" cy="990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848720" y="365688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819520" y="2819520"/>
            <a:ext cx="990360" cy="152280"/>
            <a:chOff x="2819520" y="2819520"/>
            <a:chExt cx="990360" cy="152280"/>
          </a:xfrm>
        </p:grpSpPr>
        <p:sp>
          <p:nvSpPr>
            <p:cNvPr id="93" name=""/>
            <p:cNvSpPr/>
            <p:nvPr/>
          </p:nvSpPr>
          <p:spPr>
            <a:xfrm>
              <a:off x="2819520" y="2819520"/>
              <a:ext cx="99036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240" y="281952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3520" y="2819520"/>
            <a:ext cx="990360" cy="152280"/>
            <a:chOff x="533520" y="2819520"/>
            <a:chExt cx="990360" cy="152280"/>
          </a:xfrm>
        </p:grpSpPr>
        <p:sp>
          <p:nvSpPr>
            <p:cNvPr id="96" name=""/>
            <p:cNvSpPr/>
            <p:nvPr/>
          </p:nvSpPr>
          <p:spPr>
            <a:xfrm>
              <a:off x="533520" y="2819520"/>
              <a:ext cx="99036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240" y="281952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467480" y="2819520"/>
            <a:ext cx="990720" cy="152280"/>
            <a:chOff x="7467480" y="2819520"/>
            <a:chExt cx="990720" cy="152280"/>
          </a:xfrm>
        </p:grpSpPr>
        <p:sp>
          <p:nvSpPr>
            <p:cNvPr id="99" name=""/>
            <p:cNvSpPr/>
            <p:nvPr/>
          </p:nvSpPr>
          <p:spPr>
            <a:xfrm>
              <a:off x="7467480" y="2819520"/>
              <a:ext cx="99072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560" y="2819520"/>
              <a:ext cx="15264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629400" y="2819520"/>
            <a:ext cx="990720" cy="152280"/>
            <a:chOff x="6629400" y="2819520"/>
            <a:chExt cx="990720" cy="152280"/>
          </a:xfrm>
        </p:grpSpPr>
        <p:sp>
          <p:nvSpPr>
            <p:cNvPr id="102" name=""/>
            <p:cNvSpPr/>
            <p:nvPr/>
          </p:nvSpPr>
          <p:spPr>
            <a:xfrm>
              <a:off x="6629400" y="2819520"/>
              <a:ext cx="99072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7480" y="2819520"/>
              <a:ext cx="15264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791320" y="2819520"/>
            <a:ext cx="990360" cy="152280"/>
            <a:chOff x="5791320" y="2819520"/>
            <a:chExt cx="990360" cy="152280"/>
          </a:xfrm>
        </p:grpSpPr>
        <p:sp>
          <p:nvSpPr>
            <p:cNvPr id="105" name=""/>
            <p:cNvSpPr/>
            <p:nvPr/>
          </p:nvSpPr>
          <p:spPr>
            <a:xfrm>
              <a:off x="5791320" y="2819520"/>
              <a:ext cx="990360" cy="152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040" y="2819520"/>
              <a:ext cx="152280" cy="152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-304920" y="4878360"/>
            <a:ext cx="9601200" cy="1312920"/>
            <a:chOff x="-304920" y="4878360"/>
            <a:chExt cx="9601200" cy="1312920"/>
          </a:xfrm>
        </p:grpSpPr>
        <p:graphicFrame>
          <p:nvGraphicFramePr>
            <p:cNvPr id="108" name=""/>
            <p:cNvGraphicFramePr/>
            <p:nvPr/>
          </p:nvGraphicFramePr>
          <p:xfrm>
            <a:off x="-304920" y="4883040"/>
            <a:ext cx="9601200" cy="1308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304920" y="4883040"/>
                      <a:ext cx="9601200" cy="13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943600" y="4878360"/>
              <a:ext cx="6858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828800" y="4062240"/>
            <a:ext cx="52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 and complete the tabl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59120" y="54212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51400" y="5415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5200" y="5415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19600" y="54244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2960" y="54244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40560" y="54244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05760" y="54180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56640" y="546588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3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6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4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2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8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6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4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2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8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6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4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2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8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6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4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2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45280" y="3189240"/>
            <a:ext cx="522000" cy="49068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98800" y="3170160"/>
            <a:ext cx="522000" cy="490680"/>
          </a:xfrm>
          <a:prstGeom prst="ellipse">
            <a:avLst/>
          </a:prstGeom>
          <a:solidFill>
            <a:srgbClr val="f1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pil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d the following grad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is S1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20720" y="165888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59%, 61%, 60%, 51%, 58%, 68%, 49%, 57%, 63%, 5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6440" y="222732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w a box plot to illustrate his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0080" y="324792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49%, 51%, 56%, 57%, 58%, 59%, 60%, 61%, 63%, 6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6480" y="4294080"/>
            <a:ext cx="62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10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6200" y="4890960"/>
            <a:ext cx="62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560" y="5472000"/>
            <a:ext cx="62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5+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=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86240" y="4297320"/>
            <a:ext cx="187812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58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27640" y="489420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5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43480" y="5497560"/>
            <a:ext cx="171468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6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2852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755640" y="3573360"/>
            <a:ext cx="6480360" cy="384120"/>
            <a:chOff x="755640" y="3573360"/>
            <a:chExt cx="6480360" cy="384120"/>
          </a:xfrm>
        </p:grpSpPr>
        <p:sp>
          <p:nvSpPr>
            <p:cNvPr id="470" name=""/>
            <p:cNvSpPr/>
            <p:nvPr/>
          </p:nvSpPr>
          <p:spPr>
            <a:xfrm>
              <a:off x="755640" y="3573360"/>
              <a:ext cx="3168720" cy="384120"/>
            </a:xfrm>
            <a:custGeom>
              <a:avLst/>
              <a:gdLst/>
              <a:ahLst/>
              <a:rect l="l" t="t" r="r" b="b"/>
              <a:pathLst>
                <a:path w="1996" h="242">
                  <a:moveTo>
                    <a:pt x="0" y="0"/>
                  </a:moveTo>
                  <a:cubicBezTo>
                    <a:pt x="257" y="106"/>
                    <a:pt x="514" y="212"/>
                    <a:pt x="680" y="227"/>
                  </a:cubicBezTo>
                  <a:cubicBezTo>
                    <a:pt x="846" y="242"/>
                    <a:pt x="900" y="90"/>
                    <a:pt x="998" y="90"/>
                  </a:cubicBezTo>
                  <a:cubicBezTo>
                    <a:pt x="1096" y="90"/>
                    <a:pt x="1104" y="242"/>
                    <a:pt x="1270" y="227"/>
                  </a:cubicBezTo>
                  <a:cubicBezTo>
                    <a:pt x="1436" y="212"/>
                    <a:pt x="1716" y="106"/>
                    <a:pt x="199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67280" y="3573360"/>
              <a:ext cx="3168720" cy="384120"/>
            </a:xfrm>
            <a:custGeom>
              <a:avLst/>
              <a:gdLst/>
              <a:ahLst/>
              <a:rect l="l" t="t" r="r" b="b"/>
              <a:pathLst>
                <a:path w="1996" h="242">
                  <a:moveTo>
                    <a:pt x="0" y="0"/>
                  </a:moveTo>
                  <a:cubicBezTo>
                    <a:pt x="257" y="106"/>
                    <a:pt x="514" y="212"/>
                    <a:pt x="680" y="227"/>
                  </a:cubicBezTo>
                  <a:cubicBezTo>
                    <a:pt x="846" y="242"/>
                    <a:pt x="900" y="90"/>
                    <a:pt x="998" y="90"/>
                  </a:cubicBezTo>
                  <a:cubicBezTo>
                    <a:pt x="1096" y="90"/>
                    <a:pt x="1104" y="242"/>
                    <a:pt x="1270" y="227"/>
                  </a:cubicBezTo>
                  <a:cubicBezTo>
                    <a:pt x="1436" y="212"/>
                    <a:pt x="1716" y="106"/>
                    <a:pt x="199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500"/>
                            </p:stCondLst>
                            <p:childTnLst>
                              <p:par>
                                <p:cTn id="19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395280" y="1908000"/>
            <a:ext cx="8064360" cy="657000"/>
            <a:chOff x="395280" y="1908000"/>
            <a:chExt cx="8064360" cy="657000"/>
          </a:xfrm>
        </p:grpSpPr>
        <p:sp>
          <p:nvSpPr>
            <p:cNvPr id="473" name=""/>
            <p:cNvSpPr/>
            <p:nvPr/>
          </p:nvSpPr>
          <p:spPr>
            <a:xfrm>
              <a:off x="611280" y="1908000"/>
              <a:ext cx="756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42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76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9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08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24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40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74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7344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7020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862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018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178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352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512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672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82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989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16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3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323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483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64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8000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974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344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200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27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43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5964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708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930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9308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08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24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4072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58160" y="1908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174160" y="1908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5280" y="2196720"/>
              <a:ext cx="80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4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5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60            70              80            90           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924360" y="907560"/>
            <a:ext cx="4103640" cy="864000"/>
            <a:chOff x="3924360" y="907560"/>
            <a:chExt cx="4103640" cy="864000"/>
          </a:xfrm>
        </p:grpSpPr>
        <p:sp>
          <p:nvSpPr>
            <p:cNvPr id="518" name=""/>
            <p:cNvSpPr/>
            <p:nvPr/>
          </p:nvSpPr>
          <p:spPr>
            <a:xfrm flipV="1">
              <a:off x="392436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28472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94036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09308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028000" y="9075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24360" y="1339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84720" y="90792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4720" y="1771560"/>
              <a:ext cx="28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91280" y="13399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700360" y="2635200"/>
            <a:ext cx="2016000" cy="865080"/>
            <a:chOff x="2700360" y="2635200"/>
            <a:chExt cx="2016000" cy="865080"/>
          </a:xfrm>
        </p:grpSpPr>
        <p:sp>
          <p:nvSpPr>
            <p:cNvPr id="528" name=""/>
            <p:cNvSpPr/>
            <p:nvPr/>
          </p:nvSpPr>
          <p:spPr>
            <a:xfrm>
              <a:off x="370836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0036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1964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9564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16360" y="263520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19640" y="3500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19640" y="263520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00360" y="30668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97440" y="30668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067280" y="476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                     79             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771640" y="3573000"/>
            <a:ext cx="4248360" cy="649800"/>
            <a:chOff x="2771640" y="3573000"/>
            <a:chExt cx="4248360" cy="649800"/>
          </a:xfrm>
        </p:grpSpPr>
        <p:sp>
          <p:nvSpPr>
            <p:cNvPr id="539" name=""/>
            <p:cNvSpPr/>
            <p:nvPr/>
          </p:nvSpPr>
          <p:spPr>
            <a:xfrm>
              <a:off x="2771640" y="3854520"/>
              <a:ext cx="42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6      58.5     61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987640" y="3573000"/>
              <a:ext cx="432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708360" y="357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3995280" y="357300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39640" y="76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pi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27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pi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0920" y="47912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ati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0920" y="541980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pil A interquartile range 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0920" y="592452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pil B interquartile range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02200" y="5373720"/>
            <a:ext cx="482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upil A stronger stu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upil B more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9" dur="indefinite" restart="never" nodeType="tmRoot">
          <p:childTnLst>
            <p:seq>
              <p:cTn id="1960" dur="indefinite" nodeType="mainSeq">
                <p:childTnLst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1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table finding the mean and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547640" y="1484280"/>
          <a:ext cx="6769440" cy="3098880"/>
        </p:xfrm>
        <a:graphic>
          <a:graphicData uri="http://schemas.openxmlformats.org/drawingml/2006/table">
            <a:tbl>
              <a:tblPr/>
              <a:tblGrid>
                <a:gridCol w="1524240"/>
                <a:gridCol w="1644480"/>
                <a:gridCol w="1727280"/>
                <a:gridCol w="1873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mulative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on x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£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5076720" y="23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76720" y="275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7672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076720" y="3692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6720" y="41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04000" y="23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04000" y="275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04000" y="3187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4000" y="3692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0400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49800" y="465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tal     =       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87280" y="5157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ean = 445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26 = £17.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58626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edian = (26+1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2 = 13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/14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43640" y="587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£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8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0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6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8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table finding the mean and 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95280" y="1484280"/>
          <a:ext cx="7993080" cy="309888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  <a:gridCol w="1728720"/>
                <a:gridCol w="1800360"/>
                <a:gridCol w="1871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rts Sc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mulative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score x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– 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– 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– 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– 7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– 9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5219640" y="23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219640" y="275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19640" y="321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19640" y="3692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9640" y="41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46920" y="23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46920" y="275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46920" y="3187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46920" y="3692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94692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49800" y="465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otal     =       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87280" y="5157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ean = 900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24 = 37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87280" y="58626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Median = (24+1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2 = 12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/13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86560" y="587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0 – 39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3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0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range fall was recorded over on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0920" y="1197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ty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6mm, 30mm, 2mm, 27mm, 26mm, 30mm, 30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0920" y="17733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ty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0mm, 2mm, 68mm, 75mm, 9mm, 0mm, 0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7280" y="28875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the mean and standard deviation for both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4000" y="360828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 on your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631960" y="4435560"/>
                <a:ext cx="2371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324000" y="2205000"/>
          <a:ext cx="4895640" cy="4083120"/>
        </p:xfrm>
        <a:graphic>
          <a:graphicData uri="http://schemas.openxmlformats.org/drawingml/2006/table">
            <a:tbl>
              <a:tblPr/>
              <a:tblGrid>
                <a:gridCol w="1523880"/>
                <a:gridCol w="1644480"/>
                <a:gridCol w="172728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2052720" y="3116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2720" y="3548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5272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52720" y="4484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52720" y="4916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52720" y="5419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52720" y="5851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52720" y="30448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2720" y="3476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52720" y="4005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ty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16mm, 30mm, 2mm, 27mm, 26mm, 30mm, 30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239920" y="2278080"/>
                <a:ext cx="963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3780000" y="2247840"/>
                <a:ext cx="1319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3852720" y="4484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2720" y="4916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52720" y="54198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52720" y="58514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755640" y="1079640"/>
                <a:ext cx="136836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2401920" y="1122480"/>
                <a:ext cx="12445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3946680" y="1316160"/>
                <a:ext cx="1056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729400" y="1700280"/>
                <a:ext cx="2371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132600" y="3075120"/>
                <a:ext cx="1554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5959440" y="4459320"/>
                <a:ext cx="1949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6278400" y="5437080"/>
                <a:ext cx="13179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1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3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324000" y="2205000"/>
          <a:ext cx="4895640" cy="4083120"/>
        </p:xfrm>
        <a:graphic>
          <a:graphicData uri="http://schemas.openxmlformats.org/drawingml/2006/table">
            <a:tbl>
              <a:tblPr/>
              <a:tblGrid>
                <a:gridCol w="1523880"/>
                <a:gridCol w="1644480"/>
                <a:gridCol w="172728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2052720" y="3116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52720" y="3548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2720" y="40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2720" y="4484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2720" y="4916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2720" y="5419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2720" y="5851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52720" y="30448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52720" y="3476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52720" y="4005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39920" y="2278080"/>
                <a:ext cx="963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3780000" y="2247840"/>
                <a:ext cx="1319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5" name=""/>
          <p:cNvSpPr/>
          <p:nvPr/>
        </p:nvSpPr>
        <p:spPr>
          <a:xfrm>
            <a:off x="3852720" y="4484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8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52720" y="4916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52720" y="54198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52720" y="58514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755640" y="1079640"/>
                <a:ext cx="136836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387520" y="1122480"/>
                <a:ext cx="127476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946680" y="1316160"/>
                <a:ext cx="1056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729400" y="1700280"/>
                <a:ext cx="23716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6054840" y="3075120"/>
                <a:ext cx="1711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946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880240" y="4459320"/>
                <a:ext cx="2108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265800" y="5437080"/>
                <a:ext cx="134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3240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ty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mm, 2mm, 68mm, 75mm, 9mm, 0mm, 0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8" dur="indefinite" restart="never" nodeType="tmRoot">
          <p:childTnLst>
            <p:seq>
              <p:cTn id="2439" dur="indefinite" nodeType="mainSeq">
                <p:childTnLst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4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4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2" dur="77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3" dur="770" fill="hold"/>
                                        <p:tgtEl>
                                          <p:spTgt spid="6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5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7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77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4" dur="770" fill="hold"/>
                                        <p:tgtEl>
                                          <p:spTgt spid="6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6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8" dur="77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187280" y="836640"/>
                <a:ext cx="1900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073160" y="2044800"/>
                <a:ext cx="26128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649840" y="836640"/>
                <a:ext cx="19479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5440320" y="2060640"/>
                <a:ext cx="26607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2" name=""/>
          <p:cNvGrpSpPr/>
          <p:nvPr/>
        </p:nvGrpSpPr>
        <p:grpSpPr>
          <a:xfrm>
            <a:off x="503280" y="3716280"/>
            <a:ext cx="8893080" cy="974880"/>
            <a:chOff x="503280" y="3716280"/>
            <a:chExt cx="8893080" cy="974880"/>
          </a:xfrm>
        </p:grpSpPr>
        <p:sp>
          <p:nvSpPr>
            <p:cNvPr id="643" name=""/>
            <p:cNvSpPr/>
            <p:nvPr/>
          </p:nvSpPr>
          <p:spPr>
            <a:xfrm>
              <a:off x="503280" y="3716280"/>
              <a:ext cx="88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y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6mm, 30mm, 2mm, 27mm, 26mm, 30mm, 30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80" y="4292280"/>
              <a:ext cx="88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y 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mm, 2mm, 68mm, 75mm, 9mm, 0mm, 0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324000" y="306864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486900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lthough both Cities had a similar average rainfall for the week, the higher standard deviation for City B suggests that the rain fall was much more va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5" dur="indefinite" restart="never" nodeType="tmRoot">
          <p:childTnLst>
            <p:seq>
              <p:cTn id="2676" dur="indefinite" nodeType="mainSeq">
                <p:childTnLst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re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79280" y="189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d on a scale fo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914480" y="981000"/>
            <a:ext cx="6257880" cy="1288800"/>
            <a:chOff x="1914480" y="981000"/>
            <a:chExt cx="6257880" cy="1288800"/>
          </a:xfrm>
        </p:grpSpPr>
        <p:sp>
          <p:nvSpPr>
            <p:cNvPr id="651" name=""/>
            <p:cNvSpPr/>
            <p:nvPr/>
          </p:nvSpPr>
          <p:spPr>
            <a:xfrm>
              <a:off x="2082600" y="981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82600" y="126828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30600" y="12682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32400" y="126828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80040" y="981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14480" y="162864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04000" y="159228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90840" y="1484280"/>
              <a:ext cx="1440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/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906560" y="2652840"/>
                <a:ext cx="53294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favourable outcom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outco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52360" y="364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941400" y="4292640"/>
                <a:ext cx="1677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Jack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5651640" y="4292640"/>
                <a:ext cx="1584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eart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9360" y="5451480"/>
                <a:ext cx="1876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ice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780000" y="5451480"/>
                <a:ext cx="34318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ai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w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ce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700360" y="4181400"/>
                <a:ext cx="12254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 flipV="1">
            <a:off x="2268360" y="1268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7380360" y="4149720"/>
                <a:ext cx="1077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 flipV="1">
            <a:off x="3348000" y="1268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268360" y="5332320"/>
                <a:ext cx="10782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 flipV="1">
            <a:off x="6372360" y="1268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308720" y="5332320"/>
                <a:ext cx="12240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2484360" y="83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40000" y="198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0360" y="198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7" dur="indefinite" restart="never" nodeType="tmRoot">
          <p:childTnLst>
            <p:seq>
              <p:cTn id="2788" dur="indefinite" nodeType="mainSeq">
                <p:childTnLst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3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9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8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2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0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5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6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table arrangement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228600" y="4556160"/>
            <a:ext cx="9601200" cy="1316160"/>
            <a:chOff x="-228600" y="4556160"/>
            <a:chExt cx="9601200" cy="1316160"/>
          </a:xfrm>
        </p:grpSpPr>
        <p:graphicFrame>
          <p:nvGraphicFramePr>
            <p:cNvPr id="122" name=""/>
            <p:cNvGraphicFramePr/>
            <p:nvPr/>
          </p:nvGraphicFramePr>
          <p:xfrm>
            <a:off x="-228600" y="4560840"/>
            <a:ext cx="9601200" cy="13114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228600" y="4560840"/>
                      <a:ext cx="9601200" cy="131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6043680" y="4556160"/>
              <a:ext cx="657000" cy="99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689200" y="2236680"/>
            <a:ext cx="10396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498840" y="2604960"/>
            <a:ext cx="10396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34040" y="2236680"/>
            <a:ext cx="10396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041880" y="2604960"/>
            <a:ext cx="10414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1520" y="2236680"/>
            <a:ext cx="10432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6640" y="2236680"/>
            <a:ext cx="1041480" cy="98280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6280" y="2236680"/>
            <a:ext cx="11736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54000" y="2236680"/>
            <a:ext cx="114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78120" y="2851200"/>
            <a:ext cx="11592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8520" y="3343320"/>
            <a:ext cx="11736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0720" y="2851200"/>
            <a:ext cx="11592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3680" y="2236680"/>
            <a:ext cx="11556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71840" y="2851200"/>
            <a:ext cx="11736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8840" y="2236680"/>
            <a:ext cx="114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0720" y="2436840"/>
            <a:ext cx="11592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51080" y="3343320"/>
            <a:ext cx="11592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38520" y="2851200"/>
            <a:ext cx="11592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07040" y="3463920"/>
            <a:ext cx="11736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3320" y="3463920"/>
            <a:ext cx="11556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48160" y="2236680"/>
            <a:ext cx="1159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6680" y="2851200"/>
            <a:ext cx="11736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5920" y="3343320"/>
            <a:ext cx="11592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9600" y="3463920"/>
            <a:ext cx="114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1520" y="3463920"/>
            <a:ext cx="1177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6640" y="3343320"/>
            <a:ext cx="11448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94800" y="2973240"/>
            <a:ext cx="114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41880" y="2236680"/>
            <a:ext cx="1177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4120" y="2436840"/>
            <a:ext cx="11736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69240" y="2236680"/>
            <a:ext cx="114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61160" y="2236680"/>
            <a:ext cx="1177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2480" y="5087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14760" y="50817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38560" y="50817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2960" y="50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6320" y="50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50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69120" y="50846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20000" y="5132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3n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1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7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3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6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9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7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3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11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7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3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6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69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2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8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6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22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38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46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4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62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47680" y="1773360"/>
                <a:ext cx="3465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c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earts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331920" y="2755800"/>
                <a:ext cx="33019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Jac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Queen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09520" y="3979800"/>
                <a:ext cx="36957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a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ead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93760" y="5421240"/>
                <a:ext cx="35640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i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e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089240" y="1484280"/>
                <a:ext cx="2211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4067280" y="2549520"/>
                <a:ext cx="22111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485040" y="2549520"/>
                <a:ext cx="8236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4284720" y="3700440"/>
                <a:ext cx="16174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4211640" y="5141880"/>
                <a:ext cx="1781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9" dur="indefinite" restart="never" nodeType="tmRoot">
          <p:childTnLst>
            <p:seq>
              <p:cTn id="2860" dur="indefinite" nodeType="mainSeq">
                <p:childTnLst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2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3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4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8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6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ed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725400" y="1700280"/>
                <a:ext cx="3133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i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il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61880" y="5637240"/>
                <a:ext cx="3894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a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e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4538520" y="1484280"/>
                <a:ext cx="16178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572000" y="5357880"/>
                <a:ext cx="1781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90" name=""/>
          <p:cNvGrpSpPr/>
          <p:nvPr/>
        </p:nvGrpSpPr>
        <p:grpSpPr>
          <a:xfrm>
            <a:off x="466560" y="2565360"/>
            <a:ext cx="2449440" cy="2017440"/>
            <a:chOff x="466560" y="2565360"/>
            <a:chExt cx="2449440" cy="2017440"/>
          </a:xfrm>
        </p:grpSpPr>
        <p:grpSp>
          <p:nvGrpSpPr>
            <p:cNvPr id="691" name=""/>
            <p:cNvGrpSpPr/>
            <p:nvPr/>
          </p:nvGrpSpPr>
          <p:grpSpPr>
            <a:xfrm>
              <a:off x="466560" y="3070080"/>
              <a:ext cx="865080" cy="1225440"/>
              <a:chOff x="466560" y="3070080"/>
              <a:chExt cx="865080" cy="1225440"/>
            </a:xfrm>
          </p:grpSpPr>
          <p:sp>
            <p:nvSpPr>
              <p:cNvPr id="692" name=""/>
              <p:cNvSpPr/>
              <p:nvPr/>
            </p:nvSpPr>
            <p:spPr>
              <a:xfrm flipV="1">
                <a:off x="466560" y="3141000"/>
                <a:ext cx="86508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6560" y="3717720"/>
                <a:ext cx="865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82560" y="30700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2560" y="392724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1330200" y="3573360"/>
              <a:ext cx="865080" cy="1009440"/>
              <a:chOff x="1330200" y="3573360"/>
              <a:chExt cx="865080" cy="1009440"/>
            </a:xfrm>
          </p:grpSpPr>
          <p:sp>
            <p:nvSpPr>
              <p:cNvPr id="697" name=""/>
              <p:cNvSpPr/>
              <p:nvPr/>
            </p:nvSpPr>
            <p:spPr>
              <a:xfrm flipV="1">
                <a:off x="1330200" y="3706560"/>
                <a:ext cx="86508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30200" y="4079520"/>
                <a:ext cx="86508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546200" y="3573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46200" y="421452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331640" y="2637000"/>
              <a:ext cx="865080" cy="1009440"/>
              <a:chOff x="1331640" y="2637000"/>
              <a:chExt cx="865080" cy="100944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1331640" y="2770200"/>
                <a:ext cx="86508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31640" y="3143160"/>
                <a:ext cx="86508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547640" y="26370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547640" y="32781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2339640" y="25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39640" y="31352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39640" y="34956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39640" y="41432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300720" y="2421000"/>
            <a:ext cx="2232000" cy="3600000"/>
            <a:chOff x="6300720" y="2421000"/>
            <a:chExt cx="2232000" cy="3600000"/>
          </a:xfrm>
        </p:grpSpPr>
        <p:sp>
          <p:nvSpPr>
            <p:cNvPr id="711" name=""/>
            <p:cNvSpPr/>
            <p:nvPr/>
          </p:nvSpPr>
          <p:spPr>
            <a:xfrm flipV="1">
              <a:off x="6300720" y="3139560"/>
              <a:ext cx="7207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00720" y="4221000"/>
              <a:ext cx="7207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7021440" y="2421000"/>
              <a:ext cx="934920" cy="1439640"/>
              <a:chOff x="7021440" y="2421000"/>
              <a:chExt cx="934920" cy="1439640"/>
            </a:xfrm>
          </p:grpSpPr>
          <p:sp>
            <p:nvSpPr>
              <p:cNvPr id="714" name=""/>
              <p:cNvSpPr/>
              <p:nvPr/>
            </p:nvSpPr>
            <p:spPr>
              <a:xfrm flipV="1">
                <a:off x="7021440" y="2421000"/>
                <a:ext cx="79200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021440" y="2708280"/>
                <a:ext cx="79200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021440" y="2924280"/>
                <a:ext cx="86364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21440" y="3141720"/>
                <a:ext cx="86364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21440" y="3141720"/>
                <a:ext cx="93492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21440" y="3141720"/>
                <a:ext cx="86364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7021440" y="4581360"/>
              <a:ext cx="934920" cy="1439640"/>
              <a:chOff x="7021440" y="4581360"/>
              <a:chExt cx="934920" cy="1439640"/>
            </a:xfrm>
          </p:grpSpPr>
          <p:sp>
            <p:nvSpPr>
              <p:cNvPr id="721" name=""/>
              <p:cNvSpPr/>
              <p:nvPr/>
            </p:nvSpPr>
            <p:spPr>
              <a:xfrm flipV="1">
                <a:off x="7021440" y="4581360"/>
                <a:ext cx="79200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7021440" y="4868640"/>
                <a:ext cx="79200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7021440" y="5084640"/>
                <a:ext cx="86364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21440" y="5302080"/>
                <a:ext cx="86364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21440" y="5302080"/>
                <a:ext cx="93492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21440" y="5302080"/>
                <a:ext cx="86364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6300720" y="33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00720" y="47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56360" y="37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4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Expec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24000" y="11970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is plays the game 30 times, how many games should he expect to w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5866920" y="1268280"/>
            <a:ext cx="2160720" cy="1727280"/>
            <a:chOff x="5866920" y="1268280"/>
            <a:chExt cx="2160720" cy="1727280"/>
          </a:xfrm>
        </p:grpSpPr>
        <p:sp>
          <p:nvSpPr>
            <p:cNvPr id="733" name=""/>
            <p:cNvSpPr/>
            <p:nvPr/>
          </p:nvSpPr>
          <p:spPr>
            <a:xfrm flipH="1">
              <a:off x="5867280" y="2060280"/>
              <a:ext cx="1224000" cy="86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67280" y="1268280"/>
              <a:ext cx="1871640" cy="172728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03640" y="1268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6803640" y="1915560"/>
              <a:ext cx="93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03640" y="2276280"/>
              <a:ext cx="57636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227640" y="227628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5866920" y="1915560"/>
              <a:ext cx="93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5280" y="1699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98920" y="1699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560" y="22032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86200" y="25635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54560" y="22698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803640" y="1411200"/>
              <a:ext cx="122400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324000" y="407664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0 people were born in August. How many would you expect to be born o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7359480" y="4221000"/>
            <a:ext cx="1100160" cy="154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833400" y="2492280"/>
                <a:ext cx="32338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ial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917640" y="2997360"/>
                <a:ext cx="25747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wi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695160" y="5029200"/>
                <a:ext cx="3497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o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1031760" y="5645160"/>
                <a:ext cx="23097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3635280" y="5919840"/>
                <a:ext cx="1914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wins</m:t>
                    </m:r>
                    <m:r>
                      <m:rPr>
                        <m:lit/>
                        <m:nor/>
                      </m:rPr>
                      <m:t xml:space="preserve">?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8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8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395280" y="3357720"/>
          <a:ext cx="3335400" cy="3189240"/>
        </p:xfrm>
        <a:graphic>
          <a:graphicData uri="http://schemas.openxmlformats.org/drawingml/2006/table">
            <a:tbl>
              <a:tblPr/>
              <a:tblGrid>
                <a:gridCol w="1392480"/>
                <a:gridCol w="194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611280" y="981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nah makes a die, rolls it 400 times and records her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1592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. Calculate the relative frequency of 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1280" y="195264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. Calculate the relative frequency of a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11280" y="231156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. What can you deduce about the d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586400" y="2792520"/>
                <a:ext cx="29318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592520" y="3889440"/>
                <a:ext cx="29322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716360" y="5041800"/>
                <a:ext cx="22575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4356000" y="59562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ies too many fives, perhaps her dice is bi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2" dur="indefinite" restart="never" nodeType="tmRoot">
          <p:childTnLst>
            <p:seq>
              <p:cTn id="2963" dur="indefinite" nodeType="mainSeq">
                <p:childTnLst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tabl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816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4394160"/>
            <a:ext cx="6825600" cy="1133280"/>
            <a:chOff x="1219320" y="4394160"/>
            <a:chExt cx="6825600" cy="1133280"/>
          </a:xfrm>
        </p:grpSpPr>
        <p:sp>
          <p:nvSpPr>
            <p:cNvPr id="166" name=""/>
            <p:cNvSpPr/>
            <p:nvPr/>
          </p:nvSpPr>
          <p:spPr>
            <a:xfrm>
              <a:off x="1219320" y="4394160"/>
              <a:ext cx="6825600" cy="11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4909320"/>
              <a:ext cx="682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668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528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7896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7300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8164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9756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1240" y="4394160"/>
              <a:ext cx="0" cy="11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4188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3592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0212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960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820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54160" y="4394160"/>
              <a:ext cx="70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17080" y="4394160"/>
              <a:ext cx="4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54400" y="439416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u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54400" y="490932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57080" y="1869120"/>
            <a:ext cx="1103760" cy="1588320"/>
            <a:chOff x="757080" y="1869120"/>
            <a:chExt cx="1103760" cy="1588320"/>
          </a:xfrm>
        </p:grpSpPr>
        <p:sp>
          <p:nvSpPr>
            <p:cNvPr id="185" name=""/>
            <p:cNvSpPr/>
            <p:nvPr/>
          </p:nvSpPr>
          <p:spPr>
            <a:xfrm>
              <a:off x="762120" y="2619360"/>
              <a:ext cx="15228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2619360"/>
              <a:ext cx="15228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181600">
              <a:off x="990360" y="1856880"/>
              <a:ext cx="15228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956000">
              <a:off x="1523880" y="1856880"/>
              <a:ext cx="15264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4400" y="3305160"/>
              <a:ext cx="76212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98640" y="1894680"/>
            <a:ext cx="2018160" cy="1588320"/>
            <a:chOff x="2798640" y="1894680"/>
            <a:chExt cx="2018160" cy="1588320"/>
          </a:xfrm>
        </p:grpSpPr>
        <p:grpSp>
          <p:nvGrpSpPr>
            <p:cNvPr id="191" name=""/>
            <p:cNvGrpSpPr/>
            <p:nvPr/>
          </p:nvGrpSpPr>
          <p:grpSpPr>
            <a:xfrm>
              <a:off x="2798640" y="1894680"/>
              <a:ext cx="1103760" cy="1588320"/>
              <a:chOff x="2798640" y="1894680"/>
              <a:chExt cx="1103760" cy="1588320"/>
            </a:xfrm>
          </p:grpSpPr>
          <p:sp>
            <p:nvSpPr>
              <p:cNvPr id="192" name=""/>
              <p:cNvSpPr/>
              <p:nvPr/>
            </p:nvSpPr>
            <p:spPr>
              <a:xfrm>
                <a:off x="2803680" y="264492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18080" y="264492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181600">
                <a:off x="3031920" y="188244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956000">
                <a:off x="3565440" y="188244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55960" y="333072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713040" y="1894680"/>
              <a:ext cx="1103760" cy="1588320"/>
              <a:chOff x="3713040" y="1894680"/>
              <a:chExt cx="1103760" cy="1588320"/>
            </a:xfrm>
          </p:grpSpPr>
          <p:sp>
            <p:nvSpPr>
              <p:cNvPr id="198" name=""/>
              <p:cNvSpPr/>
              <p:nvPr/>
            </p:nvSpPr>
            <p:spPr>
              <a:xfrm>
                <a:off x="3718080" y="264492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32480" y="264492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181600">
                <a:off x="3946320" y="188244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956000">
                <a:off x="4479840" y="188244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70360" y="333072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567040" y="1901160"/>
            <a:ext cx="2932200" cy="1588320"/>
            <a:chOff x="5567040" y="1901160"/>
            <a:chExt cx="2932200" cy="1588320"/>
          </a:xfrm>
        </p:grpSpPr>
        <p:grpSp>
          <p:nvGrpSpPr>
            <p:cNvPr id="204" name=""/>
            <p:cNvGrpSpPr/>
            <p:nvPr/>
          </p:nvGrpSpPr>
          <p:grpSpPr>
            <a:xfrm>
              <a:off x="5567040" y="1901160"/>
              <a:ext cx="1103760" cy="1588320"/>
              <a:chOff x="5567040" y="1901160"/>
              <a:chExt cx="1103760" cy="1588320"/>
            </a:xfrm>
          </p:grpSpPr>
          <p:sp>
            <p:nvSpPr>
              <p:cNvPr id="205" name=""/>
              <p:cNvSpPr/>
              <p:nvPr/>
            </p:nvSpPr>
            <p:spPr>
              <a:xfrm>
                <a:off x="557208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8648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181600">
                <a:off x="5800320" y="188892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9956000">
                <a:off x="6333840" y="188892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24360" y="333720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7395480" y="1901160"/>
              <a:ext cx="1103760" cy="1588320"/>
              <a:chOff x="7395480" y="1901160"/>
              <a:chExt cx="1103760" cy="1588320"/>
            </a:xfrm>
          </p:grpSpPr>
          <p:sp>
            <p:nvSpPr>
              <p:cNvPr id="211" name=""/>
              <p:cNvSpPr/>
              <p:nvPr/>
            </p:nvSpPr>
            <p:spPr>
              <a:xfrm>
                <a:off x="740052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31492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181600">
                <a:off x="7628760" y="188892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956000">
                <a:off x="8162280" y="188892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52800" y="333720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6481080" y="1901160"/>
              <a:ext cx="1103760" cy="1588320"/>
              <a:chOff x="6481080" y="1901160"/>
              <a:chExt cx="1103760" cy="1588320"/>
            </a:xfrm>
          </p:grpSpPr>
          <p:sp>
            <p:nvSpPr>
              <p:cNvPr id="217" name=""/>
              <p:cNvSpPr/>
              <p:nvPr/>
            </p:nvSpPr>
            <p:spPr>
              <a:xfrm>
                <a:off x="648612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400520" y="2651400"/>
                <a:ext cx="152280" cy="838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181600">
                <a:off x="6714360" y="1888920"/>
                <a:ext cx="15228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9956000">
                <a:off x="7247880" y="1888920"/>
                <a:ext cx="152640" cy="838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638400" y="3337200"/>
                <a:ext cx="76212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3068640" y="496728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60920" y="500544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5080" y="500688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7600" y="500868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51440" y="500868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1640" y="499896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57880" y="49849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n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292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x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2x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34160" y="348444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n+2)(n+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38920" y="277956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+5n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292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x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1x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34160" y="348444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n+1)(n+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38920" y="277956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+5n+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x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60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x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2x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04280" y="34844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(n+2)(2n+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67640" y="277956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+7n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x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x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x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292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0x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4160" y="348444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(2n+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38920" y="277956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+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complete the follow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44680" y="1841400"/>
          <a:ext cx="8451720" cy="2162160"/>
        </p:xfrm>
        <a:graphic>
          <a:graphicData uri="http://schemas.openxmlformats.org/drawingml/2006/table">
            <a:tbl>
              <a:tblPr/>
              <a:tblGrid>
                <a:gridCol w="1382400"/>
                <a:gridCol w="957240"/>
                <a:gridCol w="957600"/>
                <a:gridCol w="957240"/>
                <a:gridCol w="957240"/>
                <a:gridCol w="957240"/>
                <a:gridCol w="957240"/>
                <a:gridCol w="132552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5969160" y="2760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62080" y="34797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34894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x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4028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5x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608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x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9200" y="3473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9x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59640" y="34574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19x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42160" y="27558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3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23280" y="3484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2n-1)(2n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38920" y="2779560"/>
            <a:ext cx="18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4n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5:42:20Z</dcterms:created>
  <dc:creator/>
  <dc:description/>
  <dc:language>en-US</dc:language>
  <cp:lastModifiedBy/>
  <dcterms:modified xsi:type="dcterms:W3CDTF">2008-04-18T08:59:38Z</dcterms:modified>
  <cp:revision>39</cp:revision>
  <dc:subject/>
  <dc:title>Puzzles and Patterns</dc:title>
</cp:coreProperties>
</file>